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0BA7-C1A0-4615-B74D-5809FC22D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3CAF-E035-4300-B543-127C8127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75F8-E808-4B87-B8D4-299243750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9A88-B34C-4EA4-A310-BB3CAAB31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6BF5-4CB8-4F49-9E04-60BF5A81B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6BD2-8E07-46B8-BB23-D372EBF5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98FD-3B7B-4036-895C-66FFE87B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4721-D0B5-4157-A82C-6341A5AC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13F8-A12F-4165-9718-657DEF85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D4AB-4F8F-460C-A8B0-D0F93292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16B2-42CA-4D27-9EF5-7F7EDC05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8873-BEF5-4F9B-9552-99668393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99C2-805A-46E1-88CE-79D14828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848C-D78E-4429-AF86-7753D3BB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BE3B-C707-4221-8A80-57AC6481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A15E-AD0C-4B11-902C-3805DCC66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8452-2B2C-4893-9CEE-BC47CC4AD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5456-0A60-4992-9DD7-79F68596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A103-40B2-4E45-BFD1-67506092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F3D7-E524-4A34-9B5B-4217E1F5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F881-08BF-46E8-BB0F-829CC240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AEF4-600A-4F38-89F7-EBAC776B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ECA6-E695-407C-89B6-28D5CE0A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1449-F0CC-4162-B478-EABC9F07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320" y="1066680"/>
            <a:ext cx="8991360" cy="5562720"/>
            <a:chOff x="76320" y="1066680"/>
            <a:chExt cx="8991360" cy="5562720"/>
          </a:xfrm>
        </p:grpSpPr>
        <p:grpSp>
          <p:nvGrpSpPr>
            <p:cNvPr id="1" name=""/>
            <p:cNvGrpSpPr/>
            <p:nvPr/>
          </p:nvGrpSpPr>
          <p:grpSpPr>
            <a:xfrm>
              <a:off x="152280" y="1218960"/>
              <a:ext cx="8839440" cy="5258160"/>
              <a:chOff x="152280" y="1218960"/>
              <a:chExt cx="8839440" cy="5258160"/>
            </a:xfrm>
          </p:grpSpPr>
          <p:sp>
            <p:nvSpPr>
              <p:cNvPr id="2" name=""/>
              <p:cNvSpPr/>
              <p:nvPr/>
            </p:nvSpPr>
            <p:spPr>
              <a:xfrm>
                <a:off x="304920" y="1371600"/>
                <a:ext cx="8534160" cy="4952880"/>
              </a:xfrm>
              <a:custGeom>
                <a:avLst/>
                <a:gdLst>
                  <a:gd name="textAreaLeft" fmla="*/ 267480 w 8534160"/>
                  <a:gd name="textAreaRight" fmla="*/ 8266680 w 8534160"/>
                  <a:gd name="textAreaTop" fmla="*/ 267480 h 4952880"/>
                  <a:gd name="textAreaBottom" fmla="*/ 4685400 h 4952880"/>
                </a:gdLst>
                <a:ahLst/>
                <a:rect l="textAreaLeft" t="textAreaTop" r="textAreaRight" b="textAreaBottom"/>
                <a:pathLst>
                  <a:path w="37217" h="21600">
                    <a:moveTo>
                      <a:pt x="1650" y="0"/>
                    </a:moveTo>
                    <a:arcTo wR="1650" hR="1650" stAng="0" swAng="5400000"/>
                    <a:lnTo>
                      <a:pt x="0" y="19950"/>
                    </a:lnTo>
                    <a:arcTo wR="1650" hR="1650" stAng="16200000" swAng="5400000"/>
                    <a:lnTo>
                      <a:pt x="35567" y="21600"/>
                    </a:lnTo>
                    <a:arcTo wR="1650" hR="1650" stAng="10800000" swAng="5400000"/>
                    <a:lnTo>
                      <a:pt x="37217" y="1650"/>
                    </a:lnTo>
                    <a:arcTo wR="1650" hR="1650" stAng="5400000" swAng="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rot="5400000">
                <a:off x="-1866960" y="3771720"/>
                <a:ext cx="4191120" cy="152640"/>
              </a:xfrm>
              <a:custGeom>
                <a:avLst/>
                <a:gdLst>
                  <a:gd name="textAreaLeft" fmla="*/ 1242360 w 4191120"/>
                  <a:gd name="textAreaRight" fmla="*/ 2948760 w 419112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rot="10800000">
                <a:off x="762120" y="1218600"/>
                <a:ext cx="7619760" cy="152280"/>
              </a:xfrm>
              <a:custGeom>
                <a:avLst/>
                <a:gdLst>
                  <a:gd name="textAreaLeft" fmla="*/ 2259000 w 7619760"/>
                  <a:gd name="textAreaRight" fmla="*/ 5360760 w 7619760"/>
                  <a:gd name="textAreaTop" fmla="*/ 45000 h 152280"/>
                  <a:gd name="textAreaBottom" fmla="*/ 10728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38080" y="6324480"/>
                <a:ext cx="7620120" cy="152640"/>
              </a:xfrm>
              <a:custGeom>
                <a:avLst/>
                <a:gdLst>
                  <a:gd name="textAreaLeft" fmla="*/ 2259000 w 7620120"/>
                  <a:gd name="textAreaRight" fmla="*/ 5361120 w 762012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rot="16200000">
                <a:off x="6858000" y="3733560"/>
                <a:ext cx="4114800" cy="152640"/>
              </a:xfrm>
              <a:custGeom>
                <a:avLst/>
                <a:gdLst>
                  <a:gd name="textAreaLeft" fmla="*/ 1220040 w 4114800"/>
                  <a:gd name="textAreaRight" fmla="*/ 2894760 w 411480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76320" y="1066680"/>
              <a:ext cx="761760" cy="762120"/>
              <a:chOff x="76320" y="1066680"/>
              <a:chExt cx="761760" cy="7621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22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1040" dir="2520846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8305920" y="1066680"/>
              <a:ext cx="761760" cy="762120"/>
              <a:chOff x="8305920" y="1066680"/>
              <a:chExt cx="761760" cy="762120"/>
            </a:xfrm>
          </p:grpSpPr>
          <p:sp>
            <p:nvSpPr>
              <p:cNvPr id="11" name=""/>
              <p:cNvSpPr/>
              <p:nvPr/>
            </p:nvSpPr>
            <p:spPr>
              <a:xfrm>
                <a:off x="83059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5456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15171" dir="577685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76320" y="5867280"/>
              <a:ext cx="761760" cy="762120"/>
              <a:chOff x="76320" y="5867280"/>
              <a:chExt cx="761760" cy="762120"/>
            </a:xfrm>
          </p:grpSpPr>
          <p:sp>
            <p:nvSpPr>
              <p:cNvPr id="14" name=""/>
              <p:cNvSpPr/>
              <p:nvPr/>
            </p:nvSpPr>
            <p:spPr>
              <a:xfrm>
                <a:off x="76320" y="58672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52280" y="607392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27703" dir="3397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8305920" y="5867280"/>
              <a:ext cx="761760" cy="762120"/>
              <a:chOff x="8305920" y="5867280"/>
              <a:chExt cx="761760" cy="762120"/>
            </a:xfrm>
          </p:grpSpPr>
          <p:sp>
            <p:nvSpPr>
              <p:cNvPr id="17" name=""/>
              <p:cNvSpPr/>
              <p:nvPr/>
            </p:nvSpPr>
            <p:spPr>
              <a:xfrm>
                <a:off x="8305920" y="58672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534520" y="607392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819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914400" y="6477120"/>
            <a:ext cx="1371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2362320" y="6459120"/>
            <a:ext cx="41148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457680"/>
            <a:ext cx="16765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EEF5-D4A7-465A-B788-34AB775039DA}" type="slidenum">
              <a:rPr b="0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76320" y="1066680"/>
            <a:ext cx="8991360" cy="4496040"/>
            <a:chOff x="76320" y="1066680"/>
            <a:chExt cx="8991360" cy="4496040"/>
          </a:xfrm>
        </p:grpSpPr>
        <p:grpSp>
          <p:nvGrpSpPr>
            <p:cNvPr id="61" name=""/>
            <p:cNvGrpSpPr/>
            <p:nvPr/>
          </p:nvGrpSpPr>
          <p:grpSpPr>
            <a:xfrm>
              <a:off x="152280" y="1218960"/>
              <a:ext cx="8839440" cy="4115160"/>
              <a:chOff x="152280" y="1218960"/>
              <a:chExt cx="8839440" cy="4115160"/>
            </a:xfrm>
          </p:grpSpPr>
          <p:sp>
            <p:nvSpPr>
              <p:cNvPr id="62" name=""/>
              <p:cNvSpPr/>
              <p:nvPr/>
            </p:nvSpPr>
            <p:spPr>
              <a:xfrm>
                <a:off x="304920" y="1371600"/>
                <a:ext cx="8534160" cy="3809880"/>
              </a:xfrm>
              <a:custGeom>
                <a:avLst/>
                <a:gdLst>
                  <a:gd name="textAreaLeft" fmla="*/ 205560 w 8534160"/>
                  <a:gd name="textAreaRight" fmla="*/ 8328600 w 8534160"/>
                  <a:gd name="textAreaTop" fmla="*/ 205560 h 3809880"/>
                  <a:gd name="textAreaBottom" fmla="*/ 3604320 h 3809880"/>
                </a:gdLst>
                <a:ahLst/>
                <a:rect l="textAreaLeft" t="textAreaTop" r="textAreaRight" b="textAreaBottom"/>
                <a:pathLst>
                  <a:path w="48382" h="21600">
                    <a:moveTo>
                      <a:pt x="1650" y="0"/>
                    </a:moveTo>
                    <a:arcTo wR="1650" hR="1650" stAng="0" swAng="5400000"/>
                    <a:lnTo>
                      <a:pt x="0" y="19950"/>
                    </a:lnTo>
                    <a:arcTo wR="1650" hR="1650" stAng="16200000" swAng="5400000"/>
                    <a:lnTo>
                      <a:pt x="46732" y="21600"/>
                    </a:lnTo>
                    <a:arcTo wR="1650" hR="1650" stAng="10800000" swAng="5400000"/>
                    <a:lnTo>
                      <a:pt x="48382" y="1650"/>
                    </a:lnTo>
                    <a:arcTo wR="1650" hR="1650" stAng="5400000" swAng="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5400000">
                <a:off x="-1333440" y="3238200"/>
                <a:ext cx="3124440" cy="152640"/>
              </a:xfrm>
              <a:custGeom>
                <a:avLst/>
                <a:gdLst>
                  <a:gd name="textAreaLeft" fmla="*/ 926280 w 3124440"/>
                  <a:gd name="textAreaRight" fmla="*/ 2198160 w 312444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10800000">
                <a:off x="762120" y="1218600"/>
                <a:ext cx="7619760" cy="152280"/>
              </a:xfrm>
              <a:custGeom>
                <a:avLst/>
                <a:gdLst>
                  <a:gd name="textAreaLeft" fmla="*/ 2259000 w 7619760"/>
                  <a:gd name="textAreaRight" fmla="*/ 5360760 w 7619760"/>
                  <a:gd name="textAreaTop" fmla="*/ 45000 h 152280"/>
                  <a:gd name="textAreaBottom" fmla="*/ 10728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38080" y="5181480"/>
                <a:ext cx="7620120" cy="152640"/>
              </a:xfrm>
              <a:custGeom>
                <a:avLst/>
                <a:gdLst>
                  <a:gd name="textAreaLeft" fmla="*/ 2259000 w 7620120"/>
                  <a:gd name="textAreaRight" fmla="*/ 5361120 w 762012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7353000" y="3237840"/>
                <a:ext cx="3124440" cy="152640"/>
              </a:xfrm>
              <a:custGeom>
                <a:avLst/>
                <a:gdLst>
                  <a:gd name="textAreaLeft" fmla="*/ 926280 w 3124440"/>
                  <a:gd name="textAreaRight" fmla="*/ 2198160 w 312444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76320" y="1066680"/>
              <a:ext cx="761760" cy="762120"/>
              <a:chOff x="76320" y="1066680"/>
              <a:chExt cx="761760" cy="762120"/>
            </a:xfrm>
          </p:grpSpPr>
          <p:sp>
            <p:nvSpPr>
              <p:cNvPr id="68" name=""/>
              <p:cNvSpPr/>
              <p:nvPr/>
            </p:nvSpPr>
            <p:spPr>
              <a:xfrm>
                <a:off x="763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522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1040" dir="2520846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8305920" y="1066680"/>
              <a:ext cx="761760" cy="762120"/>
              <a:chOff x="8305920" y="1066680"/>
              <a:chExt cx="761760" cy="762120"/>
            </a:xfrm>
          </p:grpSpPr>
          <p:sp>
            <p:nvSpPr>
              <p:cNvPr id="71" name=""/>
              <p:cNvSpPr/>
              <p:nvPr/>
            </p:nvSpPr>
            <p:spPr>
              <a:xfrm>
                <a:off x="83059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5456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15171" dir="577685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76320" y="4800600"/>
              <a:ext cx="761760" cy="762120"/>
              <a:chOff x="76320" y="4800600"/>
              <a:chExt cx="761760" cy="762120"/>
            </a:xfrm>
          </p:grpSpPr>
          <p:sp>
            <p:nvSpPr>
              <p:cNvPr id="74" name=""/>
              <p:cNvSpPr/>
              <p:nvPr/>
            </p:nvSpPr>
            <p:spPr>
              <a:xfrm>
                <a:off x="76320" y="48006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52280" y="500724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27703" dir="3397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8229600" y="4800600"/>
              <a:ext cx="761760" cy="762120"/>
              <a:chOff x="8229600" y="4800600"/>
              <a:chExt cx="761760" cy="762120"/>
            </a:xfrm>
          </p:grpSpPr>
          <p:sp>
            <p:nvSpPr>
              <p:cNvPr id="77" name=""/>
              <p:cNvSpPr/>
              <p:nvPr/>
            </p:nvSpPr>
            <p:spPr>
              <a:xfrm>
                <a:off x="8229600" y="48006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458200" y="500724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819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1519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2438280" y="6248160"/>
            <a:ext cx="4267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73FA-9E4E-4280-80F0-6B0898F55BCE}" type="slidenum">
              <a:rPr b="0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ciu.org/~spjvweb/questbrain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Thoughtful research: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oving beyond the topic!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74560" y="304920"/>
            <a:ext cx="8188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ll research is inquiry-driven, based on good question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436680" indent="-4366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erfect bibliographic forma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436680" indent="-4366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efense of your source choices in annotation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436680" indent="-4366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Quality, balanced sources. No research holes!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436680" indent="-4366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Variety of access tool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—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earch engines, subject directories, databases, book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436680" indent="-4366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riginal work, your own voice. No plagiarism!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436680" indent="-436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0720" y="228600"/>
            <a:ext cx="68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What your teachers expect:</a:t>
            </a: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0"/>
            <a:ext cx="811836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Evaluate your sources!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2120" y="1752480"/>
            <a:ext cx="81183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re your sources from a variety of media formats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Have you considered the credibility, accuracy, currency, appropriateness, and relevance of all sources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Have you pursued sources energetically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Have you followed documentation guidelines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232240" y="640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Have you used print?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600200"/>
            <a:ext cx="8001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n-fiction books are filtered for quality!</a:t>
            </a:r>
            <a:endParaRPr b="0" lang="en-US" sz="2600" spc="-1" strike="noStrike">
              <a:solidFill>
                <a:srgbClr val="003399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n-fiction books are written not only by subject specialists, they are written by authors who know the needs of their audience.</a:t>
            </a:r>
            <a:endParaRPr b="0" lang="en-US" sz="2600" spc="-1" strike="noStrike">
              <a:solidFill>
                <a:srgbClr val="003399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 may take a year or two of research and editing for an author to publish a book. Many web pages are “thrown up” in a very short time period.</a:t>
            </a:r>
            <a:endParaRPr b="0" lang="en-US" sz="2600" spc="-1" strike="noStrike">
              <a:solidFill>
                <a:srgbClr val="003399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bably 90% of this library’s collection is NOT on the Web.  </a:t>
            </a:r>
            <a:endParaRPr b="0" lang="en-US" sz="2600" spc="-1" strike="noStrike">
              <a:solidFill>
                <a:srgbClr val="003399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may need to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get u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. It’s not all on the Web.</a:t>
            </a:r>
            <a:endParaRPr b="0" lang="en-US" sz="26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04920" y="2209680"/>
            <a:ext cx="2133360" cy="1067040"/>
          </a:xfrm>
          <a:custGeom>
            <a:avLst/>
            <a:gdLst>
              <a:gd name="textAreaLeft" fmla="*/ 266400 w 2133360"/>
              <a:gd name="textAreaRight" fmla="*/ 1866960 w 213336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topic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62320" y="2895480"/>
            <a:ext cx="2057400" cy="914400"/>
          </a:xfrm>
          <a:custGeom>
            <a:avLst/>
            <a:gdLst>
              <a:gd name="textAreaLeft" fmla="*/ 257040 w 2057400"/>
              <a:gd name="textAreaRight" fmla="*/ 1800360 w 20574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question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19720" y="3733920"/>
            <a:ext cx="1752480" cy="1066680"/>
          </a:xfrm>
          <a:custGeom>
            <a:avLst/>
            <a:gdLst>
              <a:gd name="textAreaLeft" fmla="*/ 218880 w 1752480"/>
              <a:gd name="textAreaRight" fmla="*/ 1533600 w 175248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tentative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thesi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4419720"/>
            <a:ext cx="1752480" cy="1066680"/>
          </a:xfrm>
          <a:custGeom>
            <a:avLst/>
            <a:gdLst>
              <a:gd name="textAreaLeft" fmla="*/ 218880 w 1752480"/>
              <a:gd name="textAreaRight" fmla="*/ 1533600 w 175248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thesi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22860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Verdana"/>
              </a:rPr>
              <a:t>Process for developing the thoughtful thesi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Why, a thesis?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1655640"/>
            <a:ext cx="754380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901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 thesis statement declares what you intend to prove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901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 thesis gives your work focus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901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 good thesis statement makes the difference between a thoughtful research project and a simple retelling of facts. 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901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t makes the work worth doing!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I have a thesis. Where do I put it?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e thesis statement is typically located at the end of your opening paragraph. (The opening paragraph serves to set the context for the thesis.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How do I know if I have a solid tentative thesis?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371600" y="3505320"/>
            <a:ext cx="158112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What does a thesis look like?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1523880"/>
            <a:ext cx="87631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Simple equations: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05a"/>
                </a:solidFill>
                <a:latin typeface="Arial"/>
              </a:rPr>
              <a:t>Specific top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5918bb"/>
                </a:solidFill>
                <a:latin typeface="Arial"/>
              </a:rPr>
              <a:t>Attitude/Angle/Arg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Thesi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3 Ts:  Topic + ’Tude = Thesis)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What you plan to argue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1822cd"/>
                </a:solidFill>
                <a:latin typeface="Arial"/>
              </a:rPr>
              <a:t>How you plan to argue it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2f8b20"/>
                </a:solidFill>
                <a:latin typeface="Arial"/>
              </a:rPr>
              <a:t>Your thesis</a:t>
            </a:r>
            <a:r>
              <a:rPr b="1" lang="en-US" sz="1600" spc="-1" strike="noStrike">
                <a:solidFill>
                  <a:srgbClr val="f63f1b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3962520"/>
            <a:ext cx="72388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ttributes of a good thesis: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Contestable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—proposes an argument with which people could reasonably disagree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Provocative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—takes a stand and justifies the discussion you will present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Coverable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—could be adequately covered in the format of the project assigned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Specific and focused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—proves a point without discussing “everything in the world about …”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Provable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—asserts your own conclusion based on solid evidence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" dur="1" fill="hold"/>
                                  <p:tgtEl>
                                    <p:spTgt spid="1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Don’t rush your thesis!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 good tentative thesis will help you focus your search for information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You must do a lot of background reading before you know enough about a subject to identify the key or essential questions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You may not know how you stand on an issue until you have examined the evidence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You will likely begin your research with a working, preliminary or tentative thesis which you will continue to refine until you are certain of where the evidence lead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o, what’s the big deal about research?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419720" y="2743200"/>
            <a:ext cx="3074760" cy="3259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85800" y="1219320"/>
            <a:ext cx="4419720" cy="2209680"/>
          </a:xfrm>
          <a:prstGeom prst="cloudCallout">
            <a:avLst>
              <a:gd name="adj1" fmla="val 47092"/>
              <a:gd name="adj2" fmla="val 70907"/>
            </a:avLst>
          </a:prstGeom>
          <a:solidFill>
            <a:srgbClr val="ff898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harcoal"/>
              </a:rPr>
              <a:t>It’s jus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harcoal"/>
              </a:rPr>
              <a:t>another project!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Be flexible!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he evidence may lead you to a conclusion you didn't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hink you’d reach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It is perfectly okay to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hange your thesis!</a:t>
            </a:r>
            <a:br>
              <a:rPr sz="3200"/>
            </a:b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How will you find a thesis?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As you read look for: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nteresting contrasts or comparisons or patterns emerging in the informatio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omething about the topic that surprises yo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deas that make you wonder why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iorities you can weigh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omething an “expert” says that makes you respond, “No way! That can’t be right!” or “Yes, absolutely. I agree!”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1219320"/>
            <a:ext cx="7923240" cy="50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9880" indent="-39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569880" indent="-39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oes the thesis  inspire a reasonable reader to ask,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“How?” or “Why?”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569880" indent="-39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Would a reasonable reader NOT respond with “Duh!” or “So what?” or “Gee, no kidding!” or “Who cares?”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569880" indent="-39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oes the thesis avoid general phrasing and/or sweeping words such as “all” or “none” or “every”?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569880" indent="-39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oes the thesis lead the reader toward the topic sentences (the subtopics needed to prove the thesis)?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569880" indent="-39528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5.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an the thesis be adequately developed in the required length of the paper or project?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569880" indent="-395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If you cannot answer “YES” to these questions, what changes 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must you make in order for your thesis to pass these tests?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3808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ry these five tests on your own tentative thesis: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4" dur="1" fill="hold"/>
                                  <p:tgtEl>
                                    <p:spTgt spid="1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Are these good thesis statements? (Use the five tests to decide.)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41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44172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errorism should not happen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4172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e causes of the Civil War were economic, social, and political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4172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The Simpsons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represents the greatest animated show in the history of television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4172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The Simpsons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treats the issues of ethnicity, family dynamics, and social issues effectively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41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5.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Often dismissed because it is animated, </a:t>
            </a: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The Simpsons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treats the issue of ethnicity more powerfully than did</a:t>
            </a: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e critically praised </a:t>
            </a: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All In The Family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441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441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Now you are ready!</a:t>
            </a:r>
            <a:br>
              <a:rPr sz="4400"/>
            </a:b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Go forth and do powerful, thoughtful research!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066320" y="35049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emember, you are not alone. Check frequently with your teacher-librarian and classroom teacher for guidance!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Research is a real-life skill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earch projects are training grounds for adult problem-solving and decision-mak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ich car should I buy and how much should I pay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ich candidate will best represent my interests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an I convince my boss to accept my proposal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should we work together to rebuild Iraq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o do I believe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No more reports!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The . . 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ountr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tat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residen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nima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report has already been done (very well) by any number of encyclopedias. 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Why should we ask you to waste your time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58000" y="1752480"/>
            <a:ext cx="866880" cy="1125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1098720" cy="1334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638680" y="2133720"/>
            <a:ext cx="2362320" cy="14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Thoughtful research asks you to: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733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nalyz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Judg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upport or reject or critiqu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rioritiz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valuat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la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3733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ebat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nclud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ecommen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Justif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rgu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ropos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ven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0948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We are asking for . . . </a:t>
            </a:r>
            <a:br>
              <a:rPr sz="4400"/>
            </a:b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more meaningful, and more interesting research!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429000" y="4038480"/>
            <a:ext cx="243828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41320" y="2895480"/>
            <a:ext cx="760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What exactly do we expect?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80880" y="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33cc"/>
                </a:solidFill>
                <a:latin typeface="Arial"/>
              </a:rPr>
              <a:t>When you search:</a:t>
            </a:r>
            <a:endParaRPr b="0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1600200"/>
            <a:ext cx="80773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Arial"/>
              </a:rPr>
              <a:t>Three tips:</a:t>
            </a:r>
            <a:endParaRPr b="0" lang="en-US" sz="2900" spc="-1" strike="noStrike">
              <a:solidFill>
                <a:srgbClr val="003399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26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Arial"/>
              </a:rPr>
              <a:t>Focus—what is your mission? your question? Be specific!</a:t>
            </a:r>
            <a:endParaRPr b="0" lang="en-US" sz="2900" spc="-1" strike="noStrike">
              <a:solidFill>
                <a:srgbClr val="003399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26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Arial"/>
              </a:rPr>
              <a:t>Strategize—select search tools and search terms with precision</a:t>
            </a:r>
            <a:endParaRPr b="0" lang="en-US" sz="2900" spc="-1" strike="noStrike">
              <a:solidFill>
                <a:srgbClr val="003399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26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Arial"/>
              </a:rPr>
              <a:t>Refine—attempt to improve your search </a:t>
            </a:r>
            <a:br>
              <a:rPr sz="2900"/>
            </a:br>
            <a:r>
              <a:rPr b="0" lang="en-US" sz="2900" spc="-1" strike="noStrike">
                <a:solidFill>
                  <a:srgbClr val="003399"/>
                </a:solidFill>
                <a:latin typeface="Arial"/>
              </a:rPr>
              <a:t>results</a:t>
            </a:r>
            <a:endParaRPr b="0" lang="en-US" sz="2900" spc="-1" strike="noStrike">
              <a:solidFill>
                <a:srgbClr val="003399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26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Arial"/>
              </a:rPr>
              <a:t>Evaluate—which results to visit, which documents to use? Did I do good work?</a:t>
            </a:r>
            <a:endParaRPr b="0" lang="en-US" sz="29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62120" y="380880"/>
            <a:ext cx="7696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Start with good question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0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Arial"/>
                <a:ea typeface="Times New Roman"/>
              </a:rPr>
              <a:t> “</a:t>
            </a:r>
            <a:r>
              <a:rPr b="0" lang="en-US" sz="3400" spc="-1" strike="noStrike">
                <a:solidFill>
                  <a:srgbClr val="003399"/>
                </a:solidFill>
                <a:latin typeface="Arial"/>
                <a:ea typeface="Times New Roman"/>
              </a:rPr>
              <a:t>Which one”</a:t>
            </a:r>
            <a:endParaRPr b="0" lang="en-US" sz="3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0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Arial"/>
                <a:ea typeface="Times New Roman"/>
              </a:rPr>
              <a:t> “</a:t>
            </a:r>
            <a:r>
              <a:rPr b="0" lang="en-US" sz="3400" spc="-1" strike="noStrike">
                <a:solidFill>
                  <a:srgbClr val="003399"/>
                </a:solidFill>
                <a:latin typeface="Arial"/>
                <a:ea typeface="Times New Roman"/>
              </a:rPr>
              <a:t>How”</a:t>
            </a:r>
            <a:endParaRPr b="0" lang="en-US" sz="3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0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Arial"/>
                <a:ea typeface="Times New Roman"/>
              </a:rPr>
              <a:t> “</a:t>
            </a:r>
            <a:r>
              <a:rPr b="0" lang="en-US" sz="3400" spc="-1" strike="noStrike">
                <a:solidFill>
                  <a:srgbClr val="003399"/>
                </a:solidFill>
                <a:latin typeface="Arial"/>
                <a:ea typeface="Times New Roman"/>
              </a:rPr>
              <a:t>What if” </a:t>
            </a:r>
            <a:endParaRPr b="0" lang="en-US" sz="3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0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Arial"/>
                <a:ea typeface="Times New Roman"/>
              </a:rPr>
              <a:t> “</a:t>
            </a:r>
            <a:r>
              <a:rPr b="0" lang="en-US" sz="3400" spc="-1" strike="noStrike">
                <a:solidFill>
                  <a:srgbClr val="003399"/>
                </a:solidFill>
                <a:latin typeface="Arial"/>
                <a:ea typeface="Times New Roman"/>
              </a:rPr>
              <a:t>Should”  </a:t>
            </a:r>
            <a:endParaRPr b="0" lang="en-US" sz="3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0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Arial"/>
                <a:ea typeface="Times New Roman"/>
              </a:rPr>
              <a:t> “</a:t>
            </a:r>
            <a:r>
              <a:rPr b="0" lang="en-US" sz="3400" spc="-1" strike="noStrike">
                <a:solidFill>
                  <a:srgbClr val="003399"/>
                </a:solidFill>
                <a:latin typeface="Arial"/>
                <a:ea typeface="Times New Roman"/>
              </a:rPr>
              <a:t>Why”</a:t>
            </a:r>
            <a:endParaRPr b="0" lang="en-US" sz="3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7144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714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Brainstormer 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mciu.org/~spjvweb/questbrain.html</a:t>
            </a:r>
            <a:endParaRPr b="0" lang="en-US" sz="21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2T08:28:07Z</dcterms:created>
  <dc:creator>joyce valenza</dc:creator>
  <dc:description/>
  <dc:language>en-US</dc:language>
  <cp:lastModifiedBy>Technology Services</cp:lastModifiedBy>
  <cp:lastPrinted>2004-05-07T19:24:42Z</cp:lastPrinted>
  <dcterms:modified xsi:type="dcterms:W3CDTF">2008-01-08T18:51:28Z</dcterms:modified>
  <cp:revision>34</cp:revision>
  <dc:subject/>
  <dc:title>Thoughtful research:</dc:title>
</cp:coreProperties>
</file>